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0FD3-5DE4-425B-B904-87639B73C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D16F-F17D-4A5A-8FAD-38480DB79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CBF4-50EE-482B-9616-B0AF90089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216C-99C6-4223-A913-23C84302E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3E58-4F0C-4E16-A234-219FECCBD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614-8DB9-4FF1-AD30-79F1E764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EAC-FE7A-4789-A5BF-3C51EC56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59D-EDCE-4AB5-9988-AB183A41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E5B-6D8F-4D88-BC1E-C3A79983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144-EB93-4696-8EBF-2697166C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6C8-7BCC-425E-B592-755B2394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8B6-5ABF-4195-827A-F5BC81D2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D80-A7D3-4F76-AAD2-84164409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7C8-75F7-4EFF-A7CE-62D4242F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95A-CDD8-4816-A51F-E4C43EE0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E61-1C04-410C-9DE5-D258987B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2D5-B3E8-4461-BAF7-7A2EAFB9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6115-D4D7-44C1-8D54-CC4AC2555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435712"/>
          <p:cNvPicPr/>
          <p:nvPr/>
        </p:nvPicPr>
        <p:blipFill>
          <a:blip r:embed="rId1"/>
          <a:stretch/>
        </p:blipFill>
        <p:spPr>
          <a:xfrm>
            <a:off x="228600" y="990720"/>
            <a:ext cx="1774800" cy="5346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for Moms and their Bab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 pregnant mom SHOULDN’T d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193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at raw seafood—May cause bacterial infe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gin rigorous exercise pl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j0435712"/>
          <p:cNvPicPr/>
          <p:nvPr/>
        </p:nvPicPr>
        <p:blipFill>
          <a:blip r:embed="rId1"/>
          <a:stretch/>
        </p:blipFill>
        <p:spPr>
          <a:xfrm>
            <a:off x="228600" y="990720"/>
            <a:ext cx="1774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do before Con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952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o have all YOUR vaccinations up to d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n established exercise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eating a nutrition based d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aking folic acid approximately 1 month before conceiv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insurance policies to make sure they contain a pregn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0435712"/>
          <p:cNvPicPr/>
          <p:nvPr/>
        </p:nvPicPr>
        <p:blipFill>
          <a:blip r:embed="rId1"/>
          <a:stretch/>
        </p:blipFill>
        <p:spPr>
          <a:xfrm>
            <a:off x="0" y="1066680"/>
            <a:ext cx="1774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do when you think you are Pregna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666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going to the doctor AS SOON you think you might be pregn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to taking delivery/child care cla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afe environment (nursery)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j0435712"/>
          <p:cNvPicPr/>
          <p:nvPr/>
        </p:nvPicPr>
        <p:blipFill>
          <a:blip r:embed="rId1"/>
          <a:stretch/>
        </p:blipFill>
        <p:spPr>
          <a:xfrm>
            <a:off x="0" y="1511280"/>
            <a:ext cx="1774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j0435712"/>
          <p:cNvPicPr/>
          <p:nvPr/>
        </p:nvPicPr>
        <p:blipFill>
          <a:blip r:embed="rId1"/>
          <a:stretch/>
        </p:blipFill>
        <p:spPr>
          <a:xfrm>
            <a:off x="228600" y="1511280"/>
            <a:ext cx="1774800" cy="5346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 pregnant mom keeps healthy for herself and the bab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 average gain about 25-30 lbs over the pregnanc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normal weight before becoming pregna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ing Healthy Continu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666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t folic acid to help prevent birth de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ccoli, fortified orange juice, and liver are foods high in fol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rease sugar int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 fiber int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435712"/>
          <p:cNvPicPr/>
          <p:nvPr/>
        </p:nvPicPr>
        <p:blipFill>
          <a:blip r:embed="rId1"/>
          <a:stretch/>
        </p:blipFill>
        <p:spPr>
          <a:xfrm>
            <a:off x="0" y="1511280"/>
            <a:ext cx="1774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j0435712"/>
          <p:cNvPicPr/>
          <p:nvPr/>
        </p:nvPicPr>
        <p:blipFill>
          <a:blip r:embed="rId1"/>
          <a:stretch/>
        </p:blipFill>
        <p:spPr>
          <a:xfrm>
            <a:off x="152280" y="1219320"/>
            <a:ext cx="1774800" cy="5346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 an additional 300 calories a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ink 8-10 glasses of water a day to aid in bowel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71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t foods rich in i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h 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 M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fy vege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vents anemia- which means a  lack of iron in the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, REST, REST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j0435712"/>
          <p:cNvPicPr/>
          <p:nvPr/>
        </p:nvPicPr>
        <p:blipFill>
          <a:blip r:embed="rId1"/>
          <a:stretch/>
        </p:blipFill>
        <p:spPr>
          <a:xfrm>
            <a:off x="0" y="1295280"/>
            <a:ext cx="1774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 pregnant mom SHOULDN’T do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479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SMOK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 cause low birth weight, and premature bir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j0435712"/>
          <p:cNvPicPr/>
          <p:nvPr/>
        </p:nvPicPr>
        <p:blipFill>
          <a:blip r:embed="rId1"/>
          <a:stretch/>
        </p:blipFill>
        <p:spPr>
          <a:xfrm>
            <a:off x="0" y="1295280"/>
            <a:ext cx="1774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j0435712"/>
          <p:cNvPicPr/>
          <p:nvPr/>
        </p:nvPicPr>
        <p:blipFill>
          <a:blip r:embed="rId1"/>
          <a:stretch/>
        </p:blipFill>
        <p:spPr>
          <a:xfrm>
            <a:off x="228600" y="990720"/>
            <a:ext cx="1774800" cy="5346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 pregnant mom should NOT d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DRINK ALCOHOL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 cause birth defects, low birth weight, premature birth and, F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02:54:32Z</dcterms:created>
  <dc:creator>Preferred Customer</dc:creator>
  <dc:description/>
  <dc:language>en-US</dc:language>
  <cp:lastModifiedBy>depr14463a</cp:lastModifiedBy>
  <dcterms:modified xsi:type="dcterms:W3CDTF">2009-07-30T13:54:12Z</dcterms:modified>
  <cp:revision>11</cp:revision>
  <dc:subject/>
  <dc:title>Health for Teen Moms and their Babies </dc:title>
</cp:coreProperties>
</file>